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DDD1-0A39-4BEF-959D-21D673F56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D029-AF56-4AD1-91ED-955363C629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8A6A-64F1-480F-9733-3704FBA92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100"/>
            </a:br>
            <a:r>
              <a:rPr b="0" i="1" lang="ru-RU" sz="11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44E0-FE79-423E-BD1C-8BF66EA11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F67-D27B-4660-B107-A8A6E1D5A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BF1F-5A90-4100-BFB5-8E127271E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C0BE-A0A3-4152-85A9-9FB26DDA1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4EAA-DF9D-429F-8968-87D6C72CB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FEF9-2324-42CC-9DCD-CEA621A39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C9D1-3CEE-477C-A576-A1D328A14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EC41-2A1D-4B54-8BC4-A9621B222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0B7F-2AB1-42B5-893E-14FC5B5FCD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E0F-F7E7-4F55-B179-2B9DF9D6B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D19D-A66C-40BB-84DC-CA570ABB0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4F61-3589-4AFA-8BA2-AA9793041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9AB1-5E66-48A7-B941-FD851A6D2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E8AD-185C-4CFA-A971-970DE5EFA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8629-422E-42D1-B98B-684A92DC3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F81D-F093-47D4-B43F-8CCE77E54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6AF6-F935-4A08-88C0-54746BFD2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043B-7626-4F6F-9E77-721BC815C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243B-F671-4406-BD88-397FB8CCD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41D-69F1-43E4-A042-8BAABFEC9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9B68-8341-4685-AE7F-74C9833A9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69F8-D7FE-4E54-9EED-9BFDB8EE3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1050-906C-4B4B-B590-D4B4EA9F6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576-AEF7-4341-AFF1-5712DF680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54F2-CFB9-4748-948E-B7DBD8BBE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D730-B4C4-4192-BA48-D37344382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8B40-7BC2-4C30-88A1-CD57BD603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9899-7531-41BF-AA52-6B517B57F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990D-A90D-4E5A-91F7-C35AEA3B7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6E19-BF74-46A4-84F9-494564D8B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1D1F-88AE-496F-904E-6DB082815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FBDF-0A99-4631-B094-69D9F8894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F66F-4896-4060-85CD-6954F4963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9B9B-FA71-41C2-AEF0-2A5C56681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89B2-6E2B-484F-BC24-AEB7762070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50DE-E82C-4EDE-A86C-2EA742571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B942-A4F0-4E52-9AA6-10001E4F9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232-2AEC-4508-B363-E449B804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2C1-4804-43CD-AA5F-4713AB73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B0D-4CB4-4185-A38E-BEFBEB0D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D44-6D16-4310-92E9-9A4D0B7E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BE7-A0B5-42C0-B920-9B5741F3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436-3D77-4899-A105-F4648A53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1DB-E6DA-4B2B-8523-796D2EEE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F3F-F70D-4AED-8AF5-27D087A8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662-8E75-4391-A7AC-03BF1C85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C60-A9A0-4578-B7FE-9109D747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106-57B9-4626-BBC4-FEEF7FE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561-75E8-4683-BA27-95352B7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890-1262-4532-BB93-A2F18739C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, наконец, идол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селились в души лю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разных догматов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из превра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в доказательств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мы называем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теат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мы считаем, ч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есть принятых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етённых философских систе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ько поста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ыграно комеди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ставляющих вымышл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искусственные миры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пути существуют и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для отыскани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тия истины. 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ар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ощущений и частностей к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м аксиома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, идя от эт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й и их непоколеби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и, обсуждает и откры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 аксиомы. Этим путё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ьзуются ныне. Другой же п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ит аксиомы из ощущени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стей, поднимаясь непрерывн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епен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ка наконец не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иболее общим аксиома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уть истинный, но не испытанны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а эти пути ис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ощущений и част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вершаются в высших общностя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личие их неизмерим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дин лишь бегло касается опы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астностей, другой надлежащ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задерживается на н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зу же устанавливает нек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трактные и бесполезны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постепенно подним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тому, что действи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сообразно приро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оим образом не может бы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аксиом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ановленные рассужд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ли силу для открытия новых де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нкость природы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аксиомы, отвлечё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 из част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ю очередь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зывают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е частности и таким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науки действенными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0328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сс логического вывод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перехода по тем или и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м логики от не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х положений (посыло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их следствиям (заключения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1312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мышления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ой мысль навод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правило, об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е, присущее вс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ам какого-либо класс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0371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частного к обще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rc 2"/>
          <p:cNvSpPr/>
          <p:nvPr/>
        </p:nvSpPr>
        <p:spPr>
          <a:xfrm flipH="1" flipV="1">
            <a:off x="1240200" y="3956760"/>
            <a:ext cx="2070360" cy="2070360"/>
          </a:xfrm>
          <a:custGeom>
            <a:avLst/>
            <a:gdLst>
              <a:gd name="textAreaLeft" fmla="*/ -360 w 2070360"/>
              <a:gd name="textAreaRight" fmla="*/ 2070360 w 2070360"/>
              <a:gd name="textAreaTop" fmla="*/ -360 h 2070360"/>
              <a:gd name="textAreaBottom" fmla="*/ 2070360 h 207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"/>
          <p:cNvSpPr/>
          <p:nvPr/>
        </p:nvSpPr>
        <p:spPr>
          <a:xfrm>
            <a:off x="6189840" y="3849840"/>
            <a:ext cx="880920" cy="880920"/>
          </a:xfrm>
          <a:custGeom>
            <a:avLst/>
            <a:gdLst>
              <a:gd name="textAreaLeft" fmla="*/ 0 w 880920"/>
              <a:gd name="textAreaRight" fmla="*/ 881280 w 88092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4"/>
          <p:cNvSpPr/>
          <p:nvPr/>
        </p:nvSpPr>
        <p:spPr>
          <a:xfrm flipV="1">
            <a:off x="5829480" y="4785480"/>
            <a:ext cx="1241280" cy="12416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1640"/>
              <a:gd name="textAreaBottom" fmla="*/ 1241640 h 124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949480" y="323856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41840" y="4138560"/>
            <a:ext cx="1655640" cy="125892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тивно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ъясн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фак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922560" y="2517840"/>
            <a:ext cx="1295640" cy="718920"/>
          </a:xfrm>
          <a:prstGeom prst="downArrowCallout">
            <a:avLst>
              <a:gd name="adj1" fmla="val 45059"/>
              <a:gd name="adj2" fmla="val 4505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309840" y="539748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508200" y="5470560"/>
            <a:ext cx="54000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3903840" y="5613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300560" y="5757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695840" y="590076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5091120" y="6045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16200000">
            <a:off x="1384200" y="2068560"/>
            <a:ext cx="1565280" cy="15652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V="1">
            <a:off x="6189840" y="2787480"/>
            <a:ext cx="701640" cy="702000"/>
          </a:xfrm>
          <a:custGeom>
            <a:avLst/>
            <a:gdLst>
              <a:gd name="textAreaLeft" fmla="*/ 0 w 701640"/>
              <a:gd name="textAreaRight" fmla="*/ 702000 w 701640"/>
              <a:gd name="textAreaTop" fmla="*/ 360 h 702000"/>
              <a:gd name="textAreaBottom" fmla="*/ 702720 h 70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8"/>
          <p:cNvSpPr/>
          <p:nvPr/>
        </p:nvSpPr>
        <p:spPr>
          <a:xfrm>
            <a:off x="6189840" y="2068560"/>
            <a:ext cx="701640" cy="701640"/>
          </a:xfrm>
          <a:custGeom>
            <a:avLst/>
            <a:gdLst>
              <a:gd name="textAreaLeft" fmla="*/ 0 w 701640"/>
              <a:gd name="textAreaRight" fmla="*/ 702000 w 701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9640" y="3147840"/>
            <a:ext cx="1979640" cy="19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посредством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непол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воспарение»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6477120" y="1798560"/>
            <a:ext cx="2158920" cy="215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универсаль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возможная по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ричине неполноты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ервоначальной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индукции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6585120" y="4227480"/>
            <a:ext cx="1942920" cy="194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среднего уровня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подгонка»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од факты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8920" y="618984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ж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6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057480" y="3957480"/>
            <a:ext cx="557856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.. ибо тонкость природы во много раз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057480" y="2158920"/>
            <a:ext cx="557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и, полученные путём «подгонк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зволяют открывать новые фа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следовательно, оказыва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учном плане бесполезными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316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5092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349280" y="528948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1744560" y="543384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2139840" y="557676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536920" y="5721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2932200" y="5865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468760" y="521820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667480" y="528948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062760" y="543384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59480" y="557676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854760" y="572148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7251840" y="586584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7498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690560" y="4317840"/>
            <a:ext cx="1440000" cy="900360"/>
          </a:xfrm>
          <a:prstGeom prst="upArrowCallout">
            <a:avLst>
              <a:gd name="adj1" fmla="val 39988"/>
              <a:gd name="adj2" fmla="val 3998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008760" y="4317840"/>
            <a:ext cx="1439640" cy="900360"/>
          </a:xfrm>
          <a:prstGeom prst="upArrowCallout">
            <a:avLst>
              <a:gd name="adj1" fmla="val 39978"/>
              <a:gd name="adj2" fmla="val 3997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3849840" y="2517840"/>
            <a:ext cx="1439640" cy="900000"/>
          </a:xfrm>
          <a:prstGeom prst="upArrowCallout">
            <a:avLst>
              <a:gd name="adj1" fmla="val 39994"/>
              <a:gd name="adj2" fmla="val 39990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3849840" y="5937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431640" y="593712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3"/>
          <p:cNvSpPr/>
          <p:nvPr/>
        </p:nvSpPr>
        <p:spPr>
          <a:xfrm flipV="1">
            <a:off x="43164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flipV="1">
            <a:off x="38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4749840" y="593712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 flipV="1">
            <a:off x="47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8169120" y="5937120"/>
            <a:ext cx="54000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 flipV="1">
            <a:off x="816912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431640" y="161928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тин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06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лучшее из всех доказательст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пыт, если только он коренится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сперимент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если он перенос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другое, что считается схо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перенесение не произ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, то опыт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манчивым. Но тот способ польз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ом, который люди тепер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яют, слеп и неразумен. И пот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бродят и блуждают без вся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й дороги и руководствую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и вещами, которые попад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встречу, они обращаются ко мног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мало подвигаются вперёд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1690560" y="1618920"/>
            <a:ext cx="737712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обно тому как и в гражданских дел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е каждого, а также скрытый смысл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трастей лучше обнаруживаются тогда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двержен невзгодам, чем в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я, таким же образом и скрытое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ткрывается, когда оно подверг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ю механических искусств, чем тог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оно идёт своим чередо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ежду же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ьнейшее движение наук вперёд только т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хорошо обосновать, когда естестве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я получит и соберёт многочисл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ы, которые сами по себе не приносят польз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одействуют открытию причин и аксио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опыты мы обычно называем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етоносны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отличие о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лодоносны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25092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40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ну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й данно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известные пример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одящиеся в этой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бы 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различных матер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рание этого рода дол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образовано истор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преждевременного ум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х-либо чрезмерных тонкосте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9892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093080" y="1628640"/>
            <a:ext cx="1612800" cy="3945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6804720" y="5865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 rot="10800000">
            <a:off x="539640" y="3417480"/>
            <a:ext cx="539928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 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608472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1981800" y="593712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ите не-общее (= не-необходимое = несущественное)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ется общее (= необходимое = существенное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47400" y="1600200"/>
            <a:ext cx="3778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Oval 5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72360" y="2924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9200" y="2492280"/>
            <a:ext cx="13449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брид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637236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25040" y="299736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5"/>
          <p:cNvSpPr/>
          <p:nvPr/>
        </p:nvSpPr>
        <p:spPr>
          <a:xfrm>
            <a:off x="7939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4"/>
          <p:cNvSpPr/>
          <p:nvPr/>
        </p:nvSpPr>
        <p:spPr>
          <a:xfrm>
            <a:off x="7189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3"/>
          <p:cNvSpPr/>
          <p:nvPr/>
        </p:nvSpPr>
        <p:spPr>
          <a:xfrm>
            <a:off x="6442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6944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494676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4197240" y="53722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9"/>
          <p:cNvSpPr/>
          <p:nvPr/>
        </p:nvSpPr>
        <p:spPr>
          <a:xfrm>
            <a:off x="344952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8"/>
          <p:cNvSpPr/>
          <p:nvPr/>
        </p:nvSpPr>
        <p:spPr>
          <a:xfrm>
            <a:off x="27018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7"/>
          <p:cNvSpPr/>
          <p:nvPr/>
        </p:nvSpPr>
        <p:spPr>
          <a:xfrm>
            <a:off x="1954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1204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5"/>
          <p:cNvSpPr/>
          <p:nvPr/>
        </p:nvSpPr>
        <p:spPr>
          <a:xfrm>
            <a:off x="457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4"/>
          <p:cNvSpPr/>
          <p:nvPr/>
        </p:nvSpPr>
        <p:spPr>
          <a:xfrm>
            <a:off x="7939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3"/>
          <p:cNvSpPr/>
          <p:nvPr/>
        </p:nvSpPr>
        <p:spPr>
          <a:xfrm>
            <a:off x="7189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2"/>
          <p:cNvSpPr/>
          <p:nvPr/>
        </p:nvSpPr>
        <p:spPr>
          <a:xfrm>
            <a:off x="6442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1"/>
          <p:cNvSpPr/>
          <p:nvPr/>
        </p:nvSpPr>
        <p:spPr>
          <a:xfrm>
            <a:off x="56944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0"/>
          <p:cNvSpPr/>
          <p:nvPr/>
        </p:nvSpPr>
        <p:spPr>
          <a:xfrm>
            <a:off x="494676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4197240" y="49528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8"/>
          <p:cNvSpPr/>
          <p:nvPr/>
        </p:nvSpPr>
        <p:spPr>
          <a:xfrm>
            <a:off x="344952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7"/>
          <p:cNvSpPr/>
          <p:nvPr/>
        </p:nvSpPr>
        <p:spPr>
          <a:xfrm>
            <a:off x="27018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6"/>
          <p:cNvSpPr/>
          <p:nvPr/>
        </p:nvSpPr>
        <p:spPr>
          <a:xfrm>
            <a:off x="1954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1204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4"/>
          <p:cNvSpPr/>
          <p:nvPr/>
        </p:nvSpPr>
        <p:spPr>
          <a:xfrm>
            <a:off x="457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3"/>
          <p:cNvSpPr/>
          <p:nvPr/>
        </p:nvSpPr>
        <p:spPr>
          <a:xfrm>
            <a:off x="7939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2"/>
          <p:cNvSpPr/>
          <p:nvPr/>
        </p:nvSpPr>
        <p:spPr>
          <a:xfrm>
            <a:off x="7189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1"/>
          <p:cNvSpPr/>
          <p:nvPr/>
        </p:nvSpPr>
        <p:spPr>
          <a:xfrm>
            <a:off x="6442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56944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9"/>
          <p:cNvSpPr/>
          <p:nvPr/>
        </p:nvSpPr>
        <p:spPr>
          <a:xfrm>
            <a:off x="494676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8"/>
          <p:cNvSpPr/>
          <p:nvPr/>
        </p:nvSpPr>
        <p:spPr>
          <a:xfrm>
            <a:off x="4197240" y="45338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7"/>
          <p:cNvSpPr/>
          <p:nvPr/>
        </p:nvSpPr>
        <p:spPr>
          <a:xfrm>
            <a:off x="344952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6"/>
          <p:cNvSpPr/>
          <p:nvPr/>
        </p:nvSpPr>
        <p:spPr>
          <a:xfrm>
            <a:off x="27018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5"/>
          <p:cNvSpPr/>
          <p:nvPr/>
        </p:nvSpPr>
        <p:spPr>
          <a:xfrm>
            <a:off x="1954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1204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457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2"/>
          <p:cNvSpPr/>
          <p:nvPr/>
        </p:nvSpPr>
        <p:spPr>
          <a:xfrm>
            <a:off x="7939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1"/>
          <p:cNvSpPr/>
          <p:nvPr/>
        </p:nvSpPr>
        <p:spPr>
          <a:xfrm>
            <a:off x="7189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0"/>
          <p:cNvSpPr/>
          <p:nvPr/>
        </p:nvSpPr>
        <p:spPr>
          <a:xfrm>
            <a:off x="6442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56944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8"/>
          <p:cNvSpPr/>
          <p:nvPr/>
        </p:nvSpPr>
        <p:spPr>
          <a:xfrm>
            <a:off x="494676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4197240" y="41148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6"/>
          <p:cNvSpPr/>
          <p:nvPr/>
        </p:nvSpPr>
        <p:spPr>
          <a:xfrm>
            <a:off x="344952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5"/>
          <p:cNvSpPr/>
          <p:nvPr/>
        </p:nvSpPr>
        <p:spPr>
          <a:xfrm>
            <a:off x="27018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4"/>
          <p:cNvSpPr/>
          <p:nvPr/>
        </p:nvSpPr>
        <p:spPr>
          <a:xfrm>
            <a:off x="1954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204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2"/>
          <p:cNvSpPr/>
          <p:nvPr/>
        </p:nvSpPr>
        <p:spPr>
          <a:xfrm>
            <a:off x="457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7939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7189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9"/>
          <p:cNvSpPr/>
          <p:nvPr/>
        </p:nvSpPr>
        <p:spPr>
          <a:xfrm>
            <a:off x="6442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56944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7"/>
          <p:cNvSpPr/>
          <p:nvPr/>
        </p:nvSpPr>
        <p:spPr>
          <a:xfrm>
            <a:off x="494676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6"/>
          <p:cNvSpPr/>
          <p:nvPr/>
        </p:nvSpPr>
        <p:spPr>
          <a:xfrm>
            <a:off x="4197240" y="369576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5"/>
          <p:cNvSpPr/>
          <p:nvPr/>
        </p:nvSpPr>
        <p:spPr>
          <a:xfrm>
            <a:off x="344952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7018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1954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1204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1"/>
          <p:cNvSpPr/>
          <p:nvPr/>
        </p:nvSpPr>
        <p:spPr>
          <a:xfrm>
            <a:off x="457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0"/>
          <p:cNvSpPr/>
          <p:nvPr/>
        </p:nvSpPr>
        <p:spPr>
          <a:xfrm>
            <a:off x="7939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9"/>
          <p:cNvSpPr/>
          <p:nvPr/>
        </p:nvSpPr>
        <p:spPr>
          <a:xfrm>
            <a:off x="7189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8"/>
          <p:cNvSpPr/>
          <p:nvPr/>
        </p:nvSpPr>
        <p:spPr>
          <a:xfrm>
            <a:off x="6442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56944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6"/>
          <p:cNvSpPr/>
          <p:nvPr/>
        </p:nvSpPr>
        <p:spPr>
          <a:xfrm>
            <a:off x="494676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5"/>
          <p:cNvSpPr/>
          <p:nvPr/>
        </p:nvSpPr>
        <p:spPr>
          <a:xfrm>
            <a:off x="4197240" y="327672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344952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7018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1954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1204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457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939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7189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442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56944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5"/>
          <p:cNvSpPr/>
          <p:nvPr/>
        </p:nvSpPr>
        <p:spPr>
          <a:xfrm>
            <a:off x="494676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4"/>
          <p:cNvSpPr/>
          <p:nvPr/>
        </p:nvSpPr>
        <p:spPr>
          <a:xfrm>
            <a:off x="4197240" y="28576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344952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27018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1954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1204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57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7939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7"/>
          <p:cNvSpPr/>
          <p:nvPr/>
        </p:nvSpPr>
        <p:spPr>
          <a:xfrm>
            <a:off x="7189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442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6944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494676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4197240" y="24382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44952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7018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1954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1204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57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7939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7189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442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944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494676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4197240" y="20192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344952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27018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1954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204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457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7939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7189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6442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56944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94676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197240" y="16002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344952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7018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1954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204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6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7"/>
          <p:cNvSpPr/>
          <p:nvPr/>
        </p:nvSpPr>
        <p:spPr>
          <a:xfrm>
            <a:off x="457200" y="2019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8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9"/>
          <p:cNvSpPr/>
          <p:nvPr/>
        </p:nvSpPr>
        <p:spPr>
          <a:xfrm>
            <a:off x="457200" y="28576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0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1"/>
          <p:cNvSpPr/>
          <p:nvPr/>
        </p:nvSpPr>
        <p:spPr>
          <a:xfrm>
            <a:off x="457200" y="36957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2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3"/>
          <p:cNvSpPr/>
          <p:nvPr/>
        </p:nvSpPr>
        <p:spPr>
          <a:xfrm>
            <a:off x="457200" y="4533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4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5"/>
          <p:cNvSpPr/>
          <p:nvPr/>
        </p:nvSpPr>
        <p:spPr>
          <a:xfrm>
            <a:off x="457200" y="5372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6"/>
          <p:cNvSpPr/>
          <p:nvPr/>
        </p:nvSpPr>
        <p:spPr>
          <a:xfrm>
            <a:off x="457200" y="57913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7"/>
          <p:cNvSpPr/>
          <p:nvPr/>
        </p:nvSpPr>
        <p:spPr>
          <a:xfrm>
            <a:off x="4572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8"/>
          <p:cNvSpPr/>
          <p:nvPr/>
        </p:nvSpPr>
        <p:spPr>
          <a:xfrm>
            <a:off x="1204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9"/>
          <p:cNvSpPr/>
          <p:nvPr/>
        </p:nvSpPr>
        <p:spPr>
          <a:xfrm>
            <a:off x="1954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0"/>
          <p:cNvSpPr/>
          <p:nvPr/>
        </p:nvSpPr>
        <p:spPr>
          <a:xfrm>
            <a:off x="27018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1"/>
          <p:cNvSpPr/>
          <p:nvPr/>
        </p:nvSpPr>
        <p:spPr>
          <a:xfrm>
            <a:off x="34495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2"/>
          <p:cNvSpPr/>
          <p:nvPr/>
        </p:nvSpPr>
        <p:spPr>
          <a:xfrm>
            <a:off x="419724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3"/>
          <p:cNvSpPr/>
          <p:nvPr/>
        </p:nvSpPr>
        <p:spPr>
          <a:xfrm>
            <a:off x="494676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4"/>
          <p:cNvSpPr/>
          <p:nvPr/>
        </p:nvSpPr>
        <p:spPr>
          <a:xfrm>
            <a:off x="56944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5"/>
          <p:cNvSpPr/>
          <p:nvPr/>
        </p:nvSpPr>
        <p:spPr>
          <a:xfrm>
            <a:off x="64422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6"/>
          <p:cNvSpPr/>
          <p:nvPr/>
        </p:nvSpPr>
        <p:spPr>
          <a:xfrm>
            <a:off x="7189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7"/>
          <p:cNvSpPr/>
          <p:nvPr/>
        </p:nvSpPr>
        <p:spPr>
          <a:xfrm>
            <a:off x="7939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8"/>
          <p:cNvSpPr/>
          <p:nvPr/>
        </p:nvSpPr>
        <p:spPr>
          <a:xfrm>
            <a:off x="86868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1"/>
          <p:cNvSpPr/>
          <p:nvPr/>
        </p:nvSpPr>
        <p:spPr>
          <a:xfrm>
            <a:off x="276120" y="5937120"/>
            <a:ext cx="858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не 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при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8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8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8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8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8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0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2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1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2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6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3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5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4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1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3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8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0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4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6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0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6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7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8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1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6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5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7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6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9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-вторых, 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которые лишены да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форма… так же долж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утствовать там, где от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а, как и присутствовать т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она присутствует. Но перечисл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во всех случаях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. Поэтому отрицатель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подчинено положитель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 природы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отрено только в предметах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ственных тем, в которых да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а присутствует и наблюдается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indefinite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обнаруживается, чтобы кометы (если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причислять к метеорам) производили очевидное и постоянное действ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величение жары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солнца не производят тёпла в средней (как её называют) области воздуха. Обычно этому даётся неплохое объяснение, а именно что эта средняя область не приближена достаточно ни к теплу солнца, откуда исходят лучи, ни к земле, которая их отражает. Это можно видеть на вершинах гор (если они не чрезмерно высоки), где постоянно пребывает сне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Луны, звёзд и комет не оказываются тёплыми для осязания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лде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1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2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6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delay="indefinite"/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5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8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nodeType="clickEffect" fill="hold">
                      <p:stCondLst>
                        <p:cond delay="indefinite"/>
                      </p:stCondLst>
                      <p:childTnLst>
                        <p:par>
                          <p:cTn id="2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 называемый блуждающий огонь, который иногда налетает на стену, содержит мало тепла. Возможно, он подобен пламени винного спирта, которое спокойно и мяг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я пламени проис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холодных областях не мене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в тёплых, как, 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енландии и в Исланди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ым образом и деревья в холодных областях иногда более воспламеняем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более смолисты, чем в тёплы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овы ель, сосна и друг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вают сверкания, которые дают свет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не жгут, и они всегда бывают без гром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8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8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т ни одной осязаемой жидкости, которая была бы тепла по своей прир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остоянно оставалась бы таково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пло наводится только на время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статочно исследовано, в каких мест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чве какой природы обыч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екают тёплые источни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этому здесь не присоединяется отрицательный приме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нилое дерево … светит ноч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, однако, не отдаёт теплом.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nodeType="clickEffect" fill="hold">
                      <p:stCondLst>
                        <p:cond delay="indefinite"/>
                      </p:stCondLst>
                      <p:childTnLst>
                        <p:par>
                          <p:cTn id="2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nodeType="clickEffect" fill="hold">
                      <p:stCondLst>
                        <p:cond delay="indefinite"/>
                      </p:stCondLst>
                      <p:childTnLst>
                        <p:par>
                          <p:cTn id="2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012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7326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6640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954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68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583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3897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3211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525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1839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1054080" y="53150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8012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326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6640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5954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5268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4583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897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3211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2525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1839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1054080" y="48974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468360" y="48974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8012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7326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6640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>
            <a:off x="5954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2"/>
          <p:cNvSpPr/>
          <p:nvPr/>
        </p:nvSpPr>
        <p:spPr>
          <a:xfrm>
            <a:off x="5268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4583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3897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3211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2525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1839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1054080" y="44798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8012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7326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640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5954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4"/>
          <p:cNvSpPr/>
          <p:nvPr/>
        </p:nvSpPr>
        <p:spPr>
          <a:xfrm>
            <a:off x="5268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5"/>
          <p:cNvSpPr/>
          <p:nvPr/>
        </p:nvSpPr>
        <p:spPr>
          <a:xfrm>
            <a:off x="4583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6"/>
          <p:cNvSpPr/>
          <p:nvPr/>
        </p:nvSpPr>
        <p:spPr>
          <a:xfrm>
            <a:off x="3897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7"/>
          <p:cNvSpPr/>
          <p:nvPr/>
        </p:nvSpPr>
        <p:spPr>
          <a:xfrm>
            <a:off x="3211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8"/>
          <p:cNvSpPr/>
          <p:nvPr/>
        </p:nvSpPr>
        <p:spPr>
          <a:xfrm>
            <a:off x="2525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1839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054080" y="40622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468360" y="40622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8012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7326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6640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5954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6"/>
          <p:cNvSpPr/>
          <p:nvPr/>
        </p:nvSpPr>
        <p:spPr>
          <a:xfrm>
            <a:off x="5268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4583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3897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3211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2525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1"/>
          <p:cNvSpPr/>
          <p:nvPr/>
        </p:nvSpPr>
        <p:spPr>
          <a:xfrm>
            <a:off x="1839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2"/>
          <p:cNvSpPr/>
          <p:nvPr/>
        </p:nvSpPr>
        <p:spPr>
          <a:xfrm>
            <a:off x="1054080" y="364500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4"/>
          <p:cNvSpPr/>
          <p:nvPr/>
        </p:nvSpPr>
        <p:spPr>
          <a:xfrm>
            <a:off x="8012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5"/>
          <p:cNvSpPr/>
          <p:nvPr/>
        </p:nvSpPr>
        <p:spPr>
          <a:xfrm>
            <a:off x="7326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6"/>
          <p:cNvSpPr/>
          <p:nvPr/>
        </p:nvSpPr>
        <p:spPr>
          <a:xfrm>
            <a:off x="6640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7"/>
          <p:cNvSpPr/>
          <p:nvPr/>
        </p:nvSpPr>
        <p:spPr>
          <a:xfrm>
            <a:off x="5954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8"/>
          <p:cNvSpPr/>
          <p:nvPr/>
        </p:nvSpPr>
        <p:spPr>
          <a:xfrm>
            <a:off x="5268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9"/>
          <p:cNvSpPr/>
          <p:nvPr/>
        </p:nvSpPr>
        <p:spPr>
          <a:xfrm>
            <a:off x="4583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0"/>
          <p:cNvSpPr/>
          <p:nvPr/>
        </p:nvSpPr>
        <p:spPr>
          <a:xfrm>
            <a:off x="3897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1"/>
          <p:cNvSpPr/>
          <p:nvPr/>
        </p:nvSpPr>
        <p:spPr>
          <a:xfrm>
            <a:off x="3211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2"/>
          <p:cNvSpPr/>
          <p:nvPr/>
        </p:nvSpPr>
        <p:spPr>
          <a:xfrm>
            <a:off x="2525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3"/>
          <p:cNvSpPr/>
          <p:nvPr/>
        </p:nvSpPr>
        <p:spPr>
          <a:xfrm>
            <a:off x="1839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4"/>
          <p:cNvSpPr/>
          <p:nvPr/>
        </p:nvSpPr>
        <p:spPr>
          <a:xfrm>
            <a:off x="1054080" y="32274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5"/>
          <p:cNvSpPr/>
          <p:nvPr/>
        </p:nvSpPr>
        <p:spPr>
          <a:xfrm>
            <a:off x="468360" y="322740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6"/>
          <p:cNvSpPr/>
          <p:nvPr/>
        </p:nvSpPr>
        <p:spPr>
          <a:xfrm>
            <a:off x="8012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7"/>
          <p:cNvSpPr/>
          <p:nvPr/>
        </p:nvSpPr>
        <p:spPr>
          <a:xfrm>
            <a:off x="7326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8"/>
          <p:cNvSpPr/>
          <p:nvPr/>
        </p:nvSpPr>
        <p:spPr>
          <a:xfrm>
            <a:off x="6640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9"/>
          <p:cNvSpPr/>
          <p:nvPr/>
        </p:nvSpPr>
        <p:spPr>
          <a:xfrm>
            <a:off x="5954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0"/>
          <p:cNvSpPr/>
          <p:nvPr/>
        </p:nvSpPr>
        <p:spPr>
          <a:xfrm>
            <a:off x="5268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1"/>
          <p:cNvSpPr/>
          <p:nvPr/>
        </p:nvSpPr>
        <p:spPr>
          <a:xfrm>
            <a:off x="4583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3897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3"/>
          <p:cNvSpPr/>
          <p:nvPr/>
        </p:nvSpPr>
        <p:spPr>
          <a:xfrm>
            <a:off x="3211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4"/>
          <p:cNvSpPr/>
          <p:nvPr/>
        </p:nvSpPr>
        <p:spPr>
          <a:xfrm>
            <a:off x="2525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5"/>
          <p:cNvSpPr/>
          <p:nvPr/>
        </p:nvSpPr>
        <p:spPr>
          <a:xfrm>
            <a:off x="1839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1054080" y="28098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8"/>
          <p:cNvSpPr/>
          <p:nvPr/>
        </p:nvSpPr>
        <p:spPr>
          <a:xfrm>
            <a:off x="8012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9"/>
          <p:cNvSpPr/>
          <p:nvPr/>
        </p:nvSpPr>
        <p:spPr>
          <a:xfrm>
            <a:off x="7326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0"/>
          <p:cNvSpPr/>
          <p:nvPr/>
        </p:nvSpPr>
        <p:spPr>
          <a:xfrm>
            <a:off x="6640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5954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2"/>
          <p:cNvSpPr/>
          <p:nvPr/>
        </p:nvSpPr>
        <p:spPr>
          <a:xfrm>
            <a:off x="5268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3"/>
          <p:cNvSpPr/>
          <p:nvPr/>
        </p:nvSpPr>
        <p:spPr>
          <a:xfrm>
            <a:off x="4583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4"/>
          <p:cNvSpPr/>
          <p:nvPr/>
        </p:nvSpPr>
        <p:spPr>
          <a:xfrm>
            <a:off x="3897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5"/>
          <p:cNvSpPr/>
          <p:nvPr/>
        </p:nvSpPr>
        <p:spPr>
          <a:xfrm>
            <a:off x="3211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6"/>
          <p:cNvSpPr/>
          <p:nvPr/>
        </p:nvSpPr>
        <p:spPr>
          <a:xfrm>
            <a:off x="2525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7"/>
          <p:cNvSpPr/>
          <p:nvPr/>
        </p:nvSpPr>
        <p:spPr>
          <a:xfrm>
            <a:off x="1839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8"/>
          <p:cNvSpPr/>
          <p:nvPr/>
        </p:nvSpPr>
        <p:spPr>
          <a:xfrm>
            <a:off x="1054080" y="23922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9"/>
          <p:cNvSpPr/>
          <p:nvPr/>
        </p:nvSpPr>
        <p:spPr>
          <a:xfrm>
            <a:off x="468360" y="239220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0"/>
          <p:cNvSpPr/>
          <p:nvPr/>
        </p:nvSpPr>
        <p:spPr>
          <a:xfrm>
            <a:off x="8012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1"/>
          <p:cNvSpPr/>
          <p:nvPr/>
        </p:nvSpPr>
        <p:spPr>
          <a:xfrm>
            <a:off x="7326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"/>
          <p:cNvSpPr/>
          <p:nvPr/>
        </p:nvSpPr>
        <p:spPr>
          <a:xfrm>
            <a:off x="6640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3"/>
          <p:cNvSpPr/>
          <p:nvPr/>
        </p:nvSpPr>
        <p:spPr>
          <a:xfrm>
            <a:off x="5954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4"/>
          <p:cNvSpPr/>
          <p:nvPr/>
        </p:nvSpPr>
        <p:spPr>
          <a:xfrm>
            <a:off x="5268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5"/>
          <p:cNvSpPr/>
          <p:nvPr/>
        </p:nvSpPr>
        <p:spPr>
          <a:xfrm>
            <a:off x="4583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6"/>
          <p:cNvSpPr/>
          <p:nvPr/>
        </p:nvSpPr>
        <p:spPr>
          <a:xfrm>
            <a:off x="3897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7"/>
          <p:cNvSpPr/>
          <p:nvPr/>
        </p:nvSpPr>
        <p:spPr>
          <a:xfrm>
            <a:off x="3211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8"/>
          <p:cNvSpPr/>
          <p:nvPr/>
        </p:nvSpPr>
        <p:spPr>
          <a:xfrm>
            <a:off x="2525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9"/>
          <p:cNvSpPr/>
          <p:nvPr/>
        </p:nvSpPr>
        <p:spPr>
          <a:xfrm>
            <a:off x="1839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0"/>
          <p:cNvSpPr/>
          <p:nvPr/>
        </p:nvSpPr>
        <p:spPr>
          <a:xfrm>
            <a:off x="1054080" y="197496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2"/>
          <p:cNvSpPr/>
          <p:nvPr/>
        </p:nvSpPr>
        <p:spPr>
          <a:xfrm>
            <a:off x="8012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3"/>
          <p:cNvSpPr/>
          <p:nvPr/>
        </p:nvSpPr>
        <p:spPr>
          <a:xfrm>
            <a:off x="7326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4"/>
          <p:cNvSpPr/>
          <p:nvPr/>
        </p:nvSpPr>
        <p:spPr>
          <a:xfrm>
            <a:off x="6640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5"/>
          <p:cNvSpPr/>
          <p:nvPr/>
        </p:nvSpPr>
        <p:spPr>
          <a:xfrm>
            <a:off x="5954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6"/>
          <p:cNvSpPr/>
          <p:nvPr/>
        </p:nvSpPr>
        <p:spPr>
          <a:xfrm>
            <a:off x="5268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7"/>
          <p:cNvSpPr/>
          <p:nvPr/>
        </p:nvSpPr>
        <p:spPr>
          <a:xfrm>
            <a:off x="4583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8"/>
          <p:cNvSpPr/>
          <p:nvPr/>
        </p:nvSpPr>
        <p:spPr>
          <a:xfrm>
            <a:off x="3897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9"/>
          <p:cNvSpPr/>
          <p:nvPr/>
        </p:nvSpPr>
        <p:spPr>
          <a:xfrm>
            <a:off x="3211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0"/>
          <p:cNvSpPr/>
          <p:nvPr/>
        </p:nvSpPr>
        <p:spPr>
          <a:xfrm>
            <a:off x="2525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1"/>
          <p:cNvSpPr/>
          <p:nvPr/>
        </p:nvSpPr>
        <p:spPr>
          <a:xfrm>
            <a:off x="1839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2"/>
          <p:cNvSpPr/>
          <p:nvPr/>
        </p:nvSpPr>
        <p:spPr>
          <a:xfrm>
            <a:off x="1054080" y="155736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3"/>
          <p:cNvSpPr/>
          <p:nvPr/>
        </p:nvSpPr>
        <p:spPr>
          <a:xfrm>
            <a:off x="468360" y="155736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4"/>
          <p:cNvSpPr/>
          <p:nvPr/>
        </p:nvSpPr>
        <p:spPr>
          <a:xfrm>
            <a:off x="468360" y="155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26"/>
          <p:cNvSpPr/>
          <p:nvPr/>
        </p:nvSpPr>
        <p:spPr>
          <a:xfrm>
            <a:off x="468360" y="2392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28"/>
          <p:cNvSpPr/>
          <p:nvPr/>
        </p:nvSpPr>
        <p:spPr>
          <a:xfrm>
            <a:off x="468360" y="3227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0"/>
          <p:cNvSpPr/>
          <p:nvPr/>
        </p:nvSpPr>
        <p:spPr>
          <a:xfrm>
            <a:off x="468360" y="4062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2"/>
          <p:cNvSpPr/>
          <p:nvPr/>
        </p:nvSpPr>
        <p:spPr>
          <a:xfrm>
            <a:off x="468360" y="489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4"/>
          <p:cNvSpPr/>
          <p:nvPr/>
        </p:nvSpPr>
        <p:spPr>
          <a:xfrm>
            <a:off x="468360" y="57326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5"/>
          <p:cNvSpPr/>
          <p:nvPr/>
        </p:nvSpPr>
        <p:spPr>
          <a:xfrm>
            <a:off x="4683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6"/>
          <p:cNvSpPr/>
          <p:nvPr/>
        </p:nvSpPr>
        <p:spPr>
          <a:xfrm>
            <a:off x="105408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7"/>
          <p:cNvSpPr/>
          <p:nvPr/>
        </p:nvSpPr>
        <p:spPr>
          <a:xfrm>
            <a:off x="1839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8"/>
          <p:cNvSpPr/>
          <p:nvPr/>
        </p:nvSpPr>
        <p:spPr>
          <a:xfrm>
            <a:off x="2525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9"/>
          <p:cNvSpPr/>
          <p:nvPr/>
        </p:nvSpPr>
        <p:spPr>
          <a:xfrm>
            <a:off x="3211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0"/>
          <p:cNvSpPr/>
          <p:nvPr/>
        </p:nvSpPr>
        <p:spPr>
          <a:xfrm>
            <a:off x="3897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1"/>
          <p:cNvSpPr/>
          <p:nvPr/>
        </p:nvSpPr>
        <p:spPr>
          <a:xfrm>
            <a:off x="4583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2"/>
          <p:cNvSpPr/>
          <p:nvPr/>
        </p:nvSpPr>
        <p:spPr>
          <a:xfrm>
            <a:off x="5268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3"/>
          <p:cNvSpPr/>
          <p:nvPr/>
        </p:nvSpPr>
        <p:spPr>
          <a:xfrm>
            <a:off x="5954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4"/>
          <p:cNvSpPr/>
          <p:nvPr/>
        </p:nvSpPr>
        <p:spPr>
          <a:xfrm>
            <a:off x="6640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5"/>
          <p:cNvSpPr/>
          <p:nvPr/>
        </p:nvSpPr>
        <p:spPr>
          <a:xfrm>
            <a:off x="7326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6"/>
          <p:cNvSpPr/>
          <p:nvPr/>
        </p:nvSpPr>
        <p:spPr>
          <a:xfrm>
            <a:off x="8012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7"/>
          <p:cNvSpPr/>
          <p:nvPr/>
        </p:nvSpPr>
        <p:spPr>
          <a:xfrm>
            <a:off x="86979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2"/>
          <p:cNvSpPr/>
          <p:nvPr/>
        </p:nvSpPr>
        <p:spPr>
          <a:xfrm>
            <a:off x="1054080" y="197496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4"/>
          <p:cNvSpPr/>
          <p:nvPr/>
        </p:nvSpPr>
        <p:spPr>
          <a:xfrm>
            <a:off x="1054080" y="28098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6"/>
          <p:cNvSpPr/>
          <p:nvPr/>
        </p:nvSpPr>
        <p:spPr>
          <a:xfrm>
            <a:off x="1054080" y="36450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8"/>
          <p:cNvSpPr/>
          <p:nvPr/>
        </p:nvSpPr>
        <p:spPr>
          <a:xfrm>
            <a:off x="1054080" y="44798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0"/>
          <p:cNvSpPr/>
          <p:nvPr/>
        </p:nvSpPr>
        <p:spPr>
          <a:xfrm>
            <a:off x="1054080" y="53150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2"/>
          <p:cNvSpPr/>
          <p:nvPr/>
        </p:nvSpPr>
        <p:spPr>
          <a:xfrm>
            <a:off x="455760" y="5937120"/>
            <a:ext cx="8231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8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8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8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8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8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8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8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8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8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6" dur="8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7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8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8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8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8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7" dur="8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8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7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9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1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3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5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7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9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1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5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delay="indefinite"/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2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6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8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0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6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8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0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2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8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1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3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6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1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3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6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1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6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8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1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8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3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6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8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3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8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6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1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3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6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1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3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6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8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5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0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3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3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8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0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3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8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0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3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5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5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8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8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0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3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0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3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8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3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8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5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3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5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8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3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0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3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5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3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5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5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0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3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0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8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5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0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8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3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5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nodeType="clickEffect" fill="hold">
                      <p:stCondLst>
                        <p:cond delay="indefinite"/>
                      </p:stCondLst>
                      <p:childTnLst>
                        <p:par>
                          <p:cTn id="3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5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7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8" nodeType="clickEffect" fill="hold">
                      <p:stCondLst>
                        <p:cond delay="indefinite"/>
                      </p:stCondLst>
                      <p:childTnLst>
                        <p:par>
                          <p:cTn id="3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1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2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7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4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6" nodeType="clickEffect" fill="hold">
                      <p:stCondLst>
                        <p:cond delay="indefinite"/>
                      </p:stCondLst>
                      <p:childTnLst>
                        <p:par>
                          <p:cTn id="3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1" dur="2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5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3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8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6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8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3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5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9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1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7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9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4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9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2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5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0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6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8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-треть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в котор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уемая природа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ольшей и в меньшей степе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зможно ил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поставления роста и уменьш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дном и том же предме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посредством сравнения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азличных предметах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9" dur="indefinite" restart="never" nodeType="tmRoot">
          <p:childTnLst>
            <p:seq>
              <p:cTn id="3820" dur="indefinite" nodeType="mainSeq">
                <p:childTnLst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3"/>
          <p:cNvSpPr/>
          <p:nvPr/>
        </p:nvSpPr>
        <p:spPr>
          <a:xfrm>
            <a:off x="1692360" y="456264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12720" y="283212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"/>
          <p:cNvSpPr/>
          <p:nvPr/>
        </p:nvSpPr>
        <p:spPr>
          <a:xfrm>
            <a:off x="2625840" y="496584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огда после отбрасывания и исключения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деланного должным образом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когда все легковесные мнения обратятся в дым)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 втором месте (как бы на дне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ется положительная форм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вёрдая, истин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хорошо определённ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466560" y="1511280"/>
            <a:ext cx="611856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так, следует совершать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ложение и разделение природы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ечно, не огнём, но разумом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торый есть как бы божественный ого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546200" y="323856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этому первое дело истинной индукции (в отношен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крытия форм) есть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тбрасыва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и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сключе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х природ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торы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 встречаютс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присутствует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данная природ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встречаются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отсутствует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анная природа, или встречаются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ущи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е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ю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гда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ё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629480" y="1403280"/>
            <a:ext cx="1382760" cy="180360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6" dur="indefinite" restart="never" nodeType="tmRoot">
          <p:childTnLst>
            <p:seq>
              <p:cTn id="3827" dur="indefinite" nodeType="mainSeq">
                <p:childTnLst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nodeType="clickEffect" fill="hold">
                      <p:stCondLst>
                        <p:cond delay="indefinite"/>
                      </p:stCondLst>
                      <p:childTnLst>
                        <p:par>
                          <p:cTn id="3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727280" y="438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727280" y="294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4560" y="187020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4316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2193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417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104292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280656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104292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280656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641840" y="1546200"/>
            <a:ext cx="4246560" cy="503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dus tollendo ponens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-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я, в ко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т.е. сужд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данному предмету присущ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один из признак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ных в предикате суждения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категорическ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ее один из чле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, если членов больше дву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члены, кроме одного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твержд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ой (неисключённый) чл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431640" y="3957480"/>
            <a:ext cx="3706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24000" y="5326200"/>
            <a:ext cx="392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авильно лишь в том случае, есл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окупность членов сужде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черпыв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альтернати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/>
          <p:cNvSpPr/>
          <p:nvPr/>
        </p:nvSpPr>
        <p:spPr>
          <a:xfrm>
            <a:off x="2878200" y="1870200"/>
            <a:ext cx="576360" cy="57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3" dur="indefinite" restart="never" nodeType="tmRoot">
          <p:childTnLst>
            <p:seq>
              <p:cTn id="3854" dur="indefinite" nodeType="mainSeq">
                <p:childTnLst>
                  <p:par>
                    <p:cTn id="3855" nodeType="clickEffect" fill="hold">
                      <p:stCondLst>
                        <p:cond delay="indefinite"/>
                      </p:stCondLst>
                      <p:childTnLst>
                        <p:par>
                          <p:cTn id="3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delay="indefinite"/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5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4" nodeType="clickEffect" fill="hold">
                      <p:stCondLst>
                        <p:cond delay="indefinite"/>
                      </p:stCondLst>
                      <p:childTnLst>
                        <p:par>
                          <p:cTn id="3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9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nodeType="clickEffect" fill="hold">
                      <p:stCondLst>
                        <p:cond delay="indefinite"/>
                      </p:stCondLst>
                      <p:childTnLst>
                        <p:par>
                          <p:cTn id="3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8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9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6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1" dur="indefinite" restart="never" nodeType="tmRoot">
          <p:childTnLst>
            <p:seq>
              <p:cTn id="3962" dur="indefinite" nodeType="mainSeq">
                <p:childTnLst>
                  <p:par>
                    <p:cTn id="3963" nodeType="clickEffect" fill="hold">
                      <p:stCondLst>
                        <p:cond delay="0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2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3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61000" y="5613480"/>
            <a:ext cx="379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-Ф. Рубийя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юст Фрэнсиса Бэкон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51, Кембридж, Тринити-колледж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138560" y="2698920"/>
            <a:ext cx="48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, или наставления нравственные и политические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-е изд. – 1597, 2-е изд. – 1612, 3-е изд. –162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мудрости древни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е восстановление нау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достоинстве и приумножении нау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й Орган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ветр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жизни и смер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ая Атланти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-1624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75564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4749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2"/>
          <p:cNvSpPr/>
          <p:nvPr/>
        </p:nvSpPr>
        <p:spPr>
          <a:xfrm>
            <a:off x="660708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79056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65480" y="3238560"/>
            <a:ext cx="287964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четыр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а идол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ые осажда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ы люд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79056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25729994"/>
          <p:cNvPicPr/>
          <p:nvPr/>
        </p:nvPicPr>
        <p:blipFill>
          <a:blip r:embed="rId1"/>
          <a:stretch/>
        </p:blipFill>
        <p:spPr>
          <a:xfrm>
            <a:off x="1222200" y="5056200"/>
            <a:ext cx="96228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Oval 8"/>
          <p:cNvSpPr/>
          <p:nvPr/>
        </p:nvSpPr>
        <p:spPr>
          <a:xfrm>
            <a:off x="660708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21271054"/>
          <p:cNvPicPr/>
          <p:nvPr/>
        </p:nvPicPr>
        <p:blipFill>
          <a:blip r:embed="rId2"/>
          <a:stretch/>
        </p:blipFill>
        <p:spPr>
          <a:xfrm>
            <a:off x="6891480" y="2068560"/>
            <a:ext cx="121896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803991"/>
          <p:cNvPicPr/>
          <p:nvPr/>
        </p:nvPicPr>
        <p:blipFill>
          <a:blip r:embed="rId3"/>
          <a:stretch/>
        </p:blipFill>
        <p:spPr>
          <a:xfrm>
            <a:off x="7016760" y="5056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19859470"/>
          <p:cNvPicPr/>
          <p:nvPr/>
        </p:nvPicPr>
        <p:blipFill>
          <a:blip r:embed="rId4"/>
          <a:stretch/>
        </p:blipFill>
        <p:spPr>
          <a:xfrm>
            <a:off x="1312920" y="2014560"/>
            <a:ext cx="752400" cy="1219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/>
          <p:cNvSpPr/>
          <p:nvPr/>
        </p:nvSpPr>
        <p:spPr>
          <a:xfrm>
            <a:off x="579276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 flipH="1">
            <a:off x="259092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 flipV="1">
            <a:off x="259092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flipV="1">
            <a:off x="579600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1128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лощад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61128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42636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642636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т осн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ой природ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лемени или самом роде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 утвержд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 человека есть мера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оборот, все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чувства, так и у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оятся на аналогии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на аналогии ми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человека уподобляется неро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ркалу, которое, примеш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природе вещей свою природ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жает вещи в искривлён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езображенном ви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пещ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ть забл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человека. Ведь у кажд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мимо ошибок, свойственных ро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му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я особая пещер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 ослабляет и искажает св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это или от особ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ждённых свойств кажд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воспитания и бесед с друг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чтения книг и от авторите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д какими кто преклоняется,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ледствие разницы во впечатл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исящей от того, получают ли их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взятые и предрасположенные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 души хладнокровные и спокойные..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3:17:24Z</dcterms:created>
  <dc:creator>Николай Бирюков / Nikolai Biryukov</dc:creator>
  <dc:description>Редакция февраля 2010 г.</dc:description>
  <dc:language>en-US</dc:language>
  <cp:lastModifiedBy>LEGION</cp:lastModifiedBy>
  <dcterms:modified xsi:type="dcterms:W3CDTF">2014-11-11T09:57:55Z</dcterms:modified>
  <cp:revision>188</cp:revision>
  <dc:subject>Основы философии - Тема 10</dc:subject>
  <dc:title>Бэкон: обоснование эмпиризма</dc:title>
</cp:coreProperties>
</file>